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D550-FB45-4B2E-ABD2-80E79BAD7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9BB4-DC86-4988-A19B-DEA870CF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E199-AA71-4214-804C-6453BE5D1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5A43-E20B-40D1-99AE-A5716C390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99BE-3921-4A71-BA8A-211CBF06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652F-F5B1-419A-B552-6222DEFB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4914-C951-4ED2-AA27-DA93FC52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6FB5-E216-404E-8C9C-22FD217D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3162-A62C-4C51-8320-BC9AB75C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B9C3-1BCA-46F0-9EA6-290BE29B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61F6-54CD-471A-84DE-39E3CB5E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6F26-89A9-4F1B-984C-CC44945A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8518-C4D9-4418-A4F1-810C78D75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550548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d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44720" y="3284640"/>
            <a:ext cx="46432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indmill is powered by wind without no wind their will be n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icity to power the windm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814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14:56:14Z</dcterms:created>
  <dc:creator>HWDSB</dc:creator>
  <dc:description/>
  <dc:language>en-US</dc:language>
  <cp:lastModifiedBy>HWDSB</cp:lastModifiedBy>
  <dcterms:modified xsi:type="dcterms:W3CDTF">2011-01-19T15:26:55Z</dcterms:modified>
  <cp:revision>2</cp:revision>
  <dc:subject/>
  <dc:title>Slide 1</dc:title>
</cp:coreProperties>
</file>